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wmf" ContentType="image/x-wmf"/>
  <Override PartName="/ppt/media/image24.wmf" ContentType="image/x-wmf"/>
  <Override PartName="/ppt/media/image23.png" ContentType="image/png"/>
  <Override PartName="/ppt/media/image25.png" ContentType="image/png"/>
  <Override PartName="/ppt/media/image2.png" ContentType="image/png"/>
  <Override PartName="/ppt/media/image10.wmf" ContentType="image/x-wmf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28.png" ContentType="image/png"/>
  <Override PartName="/ppt/media/image31.wmf" ContentType="image/x-wmf"/>
  <Override PartName="/ppt/media/image6.wmf" ContentType="image/x-wmf"/>
  <Override PartName="/ppt/media/image29.wmf" ContentType="image/x-wmf"/>
  <Override PartName="/ppt/media/image32.wmf" ContentType="image/x-wmf"/>
  <Override PartName="/ppt/media/image12.png" ContentType="image/png"/>
  <Override PartName="/ppt/media/image33.png" ContentType="image/png"/>
  <Override PartName="/ppt/media/image16.wmf" ContentType="image/x-wmf"/>
  <Override PartName="/ppt/media/image4.jpeg" ContentType="image/jpe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3.gif" ContentType="image/gif"/>
  <Override PartName="/ppt/media/image14.png" ContentType="image/png"/>
  <Override PartName="/ppt/media/image15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C:\Documents and Settings\Administrator\桌面\1121315675897.gif"/>
          <p:cNvPicPr/>
          <p:nvPr/>
        </p:nvPicPr>
        <p:blipFill>
          <a:blip r:embed="rId4"/>
          <a:stretch/>
        </p:blipFill>
        <p:spPr>
          <a:xfrm flipH="1">
            <a:off x="7924680" y="4800600"/>
            <a:ext cx="936720" cy="186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8001000" y="0"/>
            <a:ext cx="800280" cy="8380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3501000" y="4935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美黑_GBK"/>
                <a:ea typeface="方正美黑_GBK"/>
              </a:rPr>
              <a:t>九年级数学上册（冀教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32767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Arial"/>
              </a:rPr>
              <a:t>第二十五章　图形的相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package" Target="../embeddings/oleObject2.docx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42480" y="4342680"/>
            <a:ext cx="61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相似多边形和图形的位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106524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，如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那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否相似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否位似？试说明理由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63" descr=""/>
          <p:cNvPicPr/>
          <p:nvPr/>
        </p:nvPicPr>
        <p:blipFill>
          <a:blip r:embed="rId2"/>
          <a:stretch/>
        </p:blipFill>
        <p:spPr>
          <a:xfrm>
            <a:off x="7315200" y="1676520"/>
            <a:ext cx="1463760" cy="1752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88240" y="2894400"/>
            <a:ext cx="41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.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E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∽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D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是位似图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04920" y="914400"/>
          <a:ext cx="8056440" cy="2154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914400"/>
                    <a:ext cx="805644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Picture 264" descr=""/>
          <p:cNvPicPr/>
          <p:nvPr/>
        </p:nvPicPr>
        <p:blipFill>
          <a:blip r:embed="rId4"/>
          <a:stretch/>
        </p:blipFill>
        <p:spPr>
          <a:xfrm>
            <a:off x="2514600" y="1752480"/>
            <a:ext cx="3124080" cy="1675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02680" y="4036680"/>
            <a:ext cx="552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.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′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′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′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28600" y="914400"/>
          <a:ext cx="8391600" cy="4317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914400"/>
                    <a:ext cx="839160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Picture 265" descr=""/>
          <p:cNvPicPr/>
          <p:nvPr/>
        </p:nvPicPr>
        <p:blipFill>
          <a:blip r:embed="rId4"/>
          <a:stretch/>
        </p:blipFill>
        <p:spPr>
          <a:xfrm>
            <a:off x="6553080" y="3048120"/>
            <a:ext cx="2286000" cy="1787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5"/>
          <a:stretch/>
        </p:blipFill>
        <p:spPr>
          <a:xfrm>
            <a:off x="990720" y="3124080"/>
            <a:ext cx="1981080" cy="1540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09480" y="52099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．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如图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A′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C′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t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A′C′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中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A′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C′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′C′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于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四边形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A′CC′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的周长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04920" y="990720"/>
          <a:ext cx="8361360" cy="2357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990720"/>
                    <a:ext cx="836136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266" descr=""/>
          <p:cNvPicPr/>
          <p:nvPr/>
        </p:nvPicPr>
        <p:blipFill>
          <a:blip r:embed="rId4"/>
          <a:stretch/>
        </p:blipFill>
        <p:spPr>
          <a:xfrm>
            <a:off x="3124080" y="1828800"/>
            <a:ext cx="2362320" cy="12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685800" y="3322800"/>
          <a:ext cx="7458120" cy="3535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322800"/>
                    <a:ext cx="745812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380880" y="762120"/>
          <a:ext cx="8474040" cy="7070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762120"/>
                    <a:ext cx="847404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Picture 267" descr=""/>
          <p:cNvPicPr/>
          <p:nvPr/>
        </p:nvPicPr>
        <p:blipFill>
          <a:blip r:embed="rId4"/>
          <a:stretch/>
        </p:blipFill>
        <p:spPr>
          <a:xfrm>
            <a:off x="2819520" y="5486400"/>
            <a:ext cx="2209680" cy="1233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371600" y="28177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′D′E′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∽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D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与画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O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的内接等边三角形类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1488600"/>
            <a:ext cx="8534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两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多边形，如果它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交于一点，我们就把这两个图形叫做位似图形，这个交点叫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这时的相似比又叫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位似图形是特殊的相似图形，所以成位似的两个图形具有相似形所有的性质：对应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对应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周长比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面积比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平方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76040" y="1294200"/>
            <a:ext cx="7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相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39760" y="137052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每对对应顶点的连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160" y="243720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位似中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53080" y="24372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位似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3240" y="457092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成比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0680" y="4570920"/>
            <a:ext cx="7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相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76360" y="51804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位似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53080" y="51804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位似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609480" y="1143000"/>
          <a:ext cx="8067960" cy="3525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143000"/>
                    <a:ext cx="806796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Picture 252" descr=""/>
          <p:cNvPicPr/>
          <p:nvPr/>
        </p:nvPicPr>
        <p:blipFill>
          <a:blip r:embed="rId4"/>
          <a:stretch/>
        </p:blipFill>
        <p:spPr>
          <a:xfrm>
            <a:off x="1371600" y="4495680"/>
            <a:ext cx="5638680" cy="1393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183280" y="1065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06800" y="3427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457200" y="1066680"/>
          <a:ext cx="8331120" cy="4846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066680"/>
                    <a:ext cx="833112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254" descr=""/>
          <p:cNvPicPr/>
          <p:nvPr/>
        </p:nvPicPr>
        <p:blipFill>
          <a:blip r:embed="rId4"/>
          <a:stretch/>
        </p:blipFill>
        <p:spPr>
          <a:xfrm>
            <a:off x="2209680" y="5410080"/>
            <a:ext cx="2590920" cy="1332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487840" y="1065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553080" y="4648320"/>
          <a:ext cx="397080" cy="7826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4648320"/>
                    <a:ext cx="3970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80880" y="914400"/>
          <a:ext cx="8453520" cy="582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14400"/>
                    <a:ext cx="8453520" cy="58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255" descr=""/>
          <p:cNvPicPr/>
          <p:nvPr/>
        </p:nvPicPr>
        <p:blipFill>
          <a:blip r:embed="rId4"/>
          <a:stretch/>
        </p:blipFill>
        <p:spPr>
          <a:xfrm>
            <a:off x="2438280" y="5562720"/>
            <a:ext cx="2210040" cy="1127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9560" y="1218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0" y="3199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8600" y="838080"/>
          <a:ext cx="8432640" cy="5496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838080"/>
                    <a:ext cx="8432640" cy="549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256" descr=""/>
          <p:cNvPicPr/>
          <p:nvPr/>
        </p:nvPicPr>
        <p:blipFill>
          <a:blip r:embed="rId4"/>
          <a:stretch/>
        </p:blipFill>
        <p:spPr>
          <a:xfrm>
            <a:off x="1143000" y="1752480"/>
            <a:ext cx="1600200" cy="1525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57" descr=""/>
          <p:cNvPicPr/>
          <p:nvPr/>
        </p:nvPicPr>
        <p:blipFill>
          <a:blip r:embed="rId5"/>
          <a:stretch/>
        </p:blipFill>
        <p:spPr>
          <a:xfrm>
            <a:off x="5257800" y="4419720"/>
            <a:ext cx="2182680" cy="2438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660120" y="2132640"/>
            <a:ext cx="23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它们的相似比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63960" y="4494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04920" y="995400"/>
          <a:ext cx="8636040" cy="8056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995400"/>
                    <a:ext cx="8636040" cy="805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5335560" y="213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52280" y="990720"/>
          <a:ext cx="8767800" cy="3371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990720"/>
                    <a:ext cx="876780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259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2438640" cy="1901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228600" y="838080"/>
          <a:ext cx="8372520" cy="4989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838080"/>
                    <a:ext cx="837252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261" descr=""/>
          <p:cNvPicPr/>
          <p:nvPr/>
        </p:nvPicPr>
        <p:blipFill>
          <a:blip r:embed="rId4"/>
          <a:stretch/>
        </p:blipFill>
        <p:spPr>
          <a:xfrm>
            <a:off x="3962520" y="1752480"/>
            <a:ext cx="1828800" cy="1573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62" descr=""/>
          <p:cNvPicPr/>
          <p:nvPr/>
        </p:nvPicPr>
        <p:blipFill>
          <a:blip r:embed="rId5"/>
          <a:stretch/>
        </p:blipFill>
        <p:spPr>
          <a:xfrm>
            <a:off x="4191120" y="4572000"/>
            <a:ext cx="2971800" cy="1719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697880" y="1141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371600" y="4267080"/>
          <a:ext cx="2449440" cy="782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4267080"/>
                    <a:ext cx="24494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07:57:25Z</dcterms:created>
  <dc:creator/>
  <dc:description/>
  <dc:language>en-US</dc:language>
  <cp:lastModifiedBy>User</cp:lastModifiedBy>
  <dcterms:modified xsi:type="dcterms:W3CDTF">2015-06-15T22:20:1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